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FE2D-09FD-4E87-BEEE-4082DF32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0E8D-C802-45EA-9FB1-5103CFC3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2851-76F1-401C-821D-55D42481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3582-C00E-4684-BF5F-4F0355A67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A39E-EF04-42F6-A69D-DD490887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E0BF-1A12-42AB-9F23-993A9330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06B0-3BF8-4AFA-ADEE-81C8F0F1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FDA8-43FA-40EB-9578-7931A1DB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58A1-8003-47F6-ADAA-2BA6444C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E0F6-BC62-4E86-8D03-E238D076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C6A8-037A-41CD-A4D4-D8C2D923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3BDA-FDD6-4BD5-B184-3BBE953A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4EDD-A7A2-43BC-91DF-B746309EE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 5 Kans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486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Emma, Elise, Phil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68152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 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was born November 25,1846 in Kentuc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ry Nation was the member of the Woman’s Christian Un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st known for attacking saloons and other drinking establish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 the years she has adapted the name, Carrie A. N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rie was controversial during her life and she remains in her dea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has been described as a religious fanatic, crank, exhibitionist, and a misfortu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was having symptoms of mental problems since she was n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rie Nation was a very complex person who was easy to stereotype and very difficult to underst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ries Mother was one in her family that suffered from mental iss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rie married David Nation in 187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oved to Texas, then to Medicine Lodge, Kansas in 1889, Where David became a Pastor of the Christian Chur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 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1828800" cy="2133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657600" y="1295280"/>
            <a:ext cx="1828800" cy="2286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400800" y="1295280"/>
            <a:ext cx="1905120" cy="2133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057400" y="3809880"/>
            <a:ext cx="1716120" cy="2405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4648320" y="3886200"/>
            <a:ext cx="30477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15:40:49Z</dcterms:created>
  <dc:creator>USD376</dc:creator>
  <dc:description/>
  <dc:language>en-US</dc:language>
  <cp:lastModifiedBy>USD376</cp:lastModifiedBy>
  <dcterms:modified xsi:type="dcterms:W3CDTF">2012-05-21T16:29:49Z</dcterms:modified>
  <cp:revision>2</cp:revision>
  <dc:subject/>
  <dc:title>Top 5 Kansans</dc:title>
</cp:coreProperties>
</file>